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B56-87AC-4567-9CEF-33CE395A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F8C-1E85-475F-8BD6-9D0C8577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B3C-3DCB-4AB8-9855-44C7D139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FEC-9501-4139-9787-B751E649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44D-E17C-43B8-8BB3-BFA254E0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3EB-CA2F-40CD-8C44-6FB01201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6DB-D4C3-4277-A28F-5806C75D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4B9-63F7-418B-880F-7BCBC2E6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515-09A5-4CEF-8D98-401685E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576-CBE0-4640-8BE7-8C19DCE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199-E502-4C71-B318-D2DC443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86F-B954-4E79-90E6-F21B42E2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7AA7-B820-4302-A962-61721804CB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ichmond Hill HS Literacy Initiative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asil, Ms. Maclarty, and Ms. Meighan – and all other members of the NGA literac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methods that require students organize their id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Require responses to scaffolded and increasingly analytical questions as per Bloom’s Tax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rovide rubrics and models that encourage peer editing, self-editing and revision on all writing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/ess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urnal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ter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ing from a different 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FT writing (see next page for summ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RAFT” assignments:</a:t>
            </a:r>
            <a:br>
              <a:rPr sz="2200"/>
            </a:b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1. Encourage students to uncover their own voices and formats for presenting their ideas about content information they are studying.  </a:t>
            </a:r>
            <a:br>
              <a:rPr sz="2200"/>
            </a:br>
            <a:r>
              <a:rPr b="1" lang="en-US" sz="2200" spc="-1" strike="noStrike">
                <a:solidFill>
                  <a:srgbClr val="ccffff"/>
                </a:solidFill>
                <a:latin typeface="Arial"/>
              </a:rPr>
              <a:t>2. Students learn to respond to writing prompts that require them to think about various perspectives: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le of the Writ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Who are you as the writer? A movie star? The President? A plan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dienc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To whom are you writing? A senator?  Yourself? A company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In what format are you writing? A diary entry? A newspaper?  A love letter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opi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What are you writing abou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Goal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study [use in a structured manner] [a variety of Tier II and Tier III] vocabulary in meaningful ways that emphasize student usage of the target words."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competitions and games to address vocabul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-Tac-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 B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a version of the Frayer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Use a version of the Frayer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0"/>
          <a:ext cx="9258480" cy="695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58480" cy="69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Highlight word el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fixes/Suffi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onyms/Synony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d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ocabulary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Use word wa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-coded by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tive (e.g. flip up word to se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mplement a systematic approach to recording vocabula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in b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notebook or b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each have students write a full page (two paragraphs) at least once a month that they have taken time to write and 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new rubric in providing feedback to students for this writing pie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ring samples of student work to our next dept.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Goal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participate in a variety of structured, subject-appropriate reading activities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day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ith the purpose of improving every student’s reading level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sophisticated reading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source do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fiction 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ark the t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ne, highlight important t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star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?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 ! in the mar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le unfamiliar wor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Structure activities to require that students think critically about the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in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between fact and opi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tructure activities to require students to make connections to the tex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-to-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ading Strategies (cont.)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Structure activities to require students to paraphrase th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nk rea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 students to rewrite information in their own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rite Regents test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rite word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Goal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ll students will write daily on topics appropriate to the subject curriculum, produce a monthly, rubrics-based writing assignment and at least one culminating argumentation piece that is presented to an audience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Writing Strategies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Use methods that require students to demonstrate comprehension and allow for formative assess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and j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nce/exit sl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ve 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ichmond Hill High School</cp:lastModifiedBy>
  <dcterms:modified xsi:type="dcterms:W3CDTF">2012-03-06T18:08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